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43015-A9F3-4BE9-90EC-50A007C0D2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76AE3-88F6-4823-A64E-534EFAA843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A71D1-8FA0-4CB3-A1D9-7FC9310DF1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532DE-0C28-40BB-85A2-DD7CF93E90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29A4A-B419-4F70-9938-A48752E154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01521-2E86-48BB-A6D1-C58928A9F7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5D783-478A-4865-BF15-9FF2DBDC8E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FEAEF-92F4-4AB9-BD32-3F6FC06070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DBE2A-CE07-4EF3-B687-4D297F8AD9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4D848-3913-4157-AB2F-40280E9880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9EF6E-D809-4AC1-9415-C3FFB8E27F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D83EE-F858-4C28-A1AB-FECF612A3F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55C9-4DBC-4E28-B985-D8C0FA960DB3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IP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General Discussion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ession will be a general discussion on HIPAA and how you are implementing your HIPAA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special case, lets talk about it and help you find an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for others affected by HIPAA, just as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3T22:24:15Z</dcterms:modified>
  <cp:revision>856</cp:revision>
  <dc:subject/>
  <dc:title>IBM Software Group</dc:title>
</cp:coreProperties>
</file>