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A4E2-D60A-4A99-BC07-AED3D33B8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6766-8017-4E96-8B56-AFED7BEC5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5DBEB-8164-4149-9773-53189185C3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1C4E-318C-4D55-8108-AB73793EC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0A7A-2C84-4099-BFEC-2D4DDB421D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E759-EF51-4FAA-8B47-87E50C226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8D43E-BF04-43F2-9A15-53E071FE7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65BC-77C3-4462-87BB-2B57E5AAB0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56E18-C55A-4CC2-9D60-7B17896767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84AC-ABCF-4B7E-960F-2FFC5E94A4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001F-AB53-4053-A36A-BE6AFFDB7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5A7B-4E71-4275-80C8-D7D1C19BF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4B20-1B25-4A19-84E1-C9917C544236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  <p:sp>
        <p:nvSpPr>
          <p:cNvPr id="3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ook Back as we Move Forw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ndy Sm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205760" y="3728880"/>
          <a:ext cx="1746000" cy="98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3728880"/>
                    <a:ext cx="17460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ose who cannot remember the past are condemned to repeat it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George Santay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12920" y="1461600"/>
            <a:ext cx="8346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SA – celebrating its 2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DI / WDI – celebrating its 1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ution of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for the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40" y="2138400"/>
            <a:ext cx="860580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ose who cannot remember the past are condemned to repeat it.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George Santayan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you don’t take a mental picture to see where you were versus where you are – you will never realize just how far you have come.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ndy Smith,  eSI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Looking 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068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9 - Events of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Family Income: $34,2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n Price Of A New House: $12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ar: $14,64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lon of Gas: $1.0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f Of Bread: $0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ge Stamp: $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Interest Rate Reaches 21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S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760" y="1122120"/>
            <a:ext cx="7413840" cy="46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ANSI designated an “Accredited Standards Committee for EDI – ASC X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79 - First standard based on TDCC structu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2 - Publication of Version 1 of American National Standards, which are ANSI certified releases of draft X12 standard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86 - X12F Finance Subcommittee forms to serve the B2B needs of the financial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0 - Alignment Task Group to recommend steps to converge X12 standards and EDIFACT messag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1 - X12N Insurance Subcommittee created to serve the B2B need of the insurance and healthcare industr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6 - ASC X12 is instrumental in having language included in HIPA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8 - ASC X12 eyes modeled approach to Object Oriented EDI and the potential synergy of X12 EDI and XML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 - The Health Insurance Portability &amp; Accountability Act (HIPAA) transaction regulation is published adopting nine X12 transactions for the health care industry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- Gartner praises ASC X12's syntax neutral architecture - Context Inspired Component Architecture - enabling the development of XML business messages and encourages a CICA-like approach for XML business developmen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istory of DI/W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2400" y="1068480"/>
            <a:ext cx="341172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8280" indent="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- Version 1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0 - version 1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1 - Version 1.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3 - Version 1.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5 - Version 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7 - Version 2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8 - Version 3.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1 MP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 - WDI 3.2 MP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8280" indent="-2426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3 - WDI 3.2 z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volution  of EDI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11400" y="1273320"/>
            <a:ext cx="4714560" cy="39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.12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F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89 - 2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89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0 - 20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1 - 3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1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3 - 30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3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5 - 305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5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7 - 307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7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8 - 4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98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0 - 40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0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9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04 - 5010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04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ren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4, 2004 – Computerworld - EDI: Alive and Well After All These Years - Transactions increase despite XML op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ant opens his e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ch 22, 2004 – ZDNet - Microsoft updates business offerings - The company said the network can now process documents based on the electronic data interchange (EDI) stand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 and XML co-exi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Today and Tomorrow </a:t>
            </a:r>
            <a:br>
              <a:rPr sz="2400"/>
            </a:br>
            <a:r>
              <a:rPr b="1" lang="en-US" sz="2400" spc="-1" strike="noStrike">
                <a:solidFill>
                  <a:srgbClr val="7889fb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889fb"/>
                </a:solidFill>
                <a:latin typeface="Arial"/>
              </a:rPr>
              <a:t>The tides have turned)</a:t>
            </a:r>
            <a:endParaRPr b="0" lang="en-US" sz="1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rester research Inc -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9-09T17:48:02Z</dcterms:modified>
  <cp:revision>887</cp:revision>
  <dc:subject/>
  <dc:title>IBM Software Grou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9654978</vt:r8>
  </property>
  <property fmtid="{D5CDD505-2E9C-101B-9397-08002B2CF9AE}" pid="3" name="_AuthorEmail">
    <vt:lpwstr>Charles.Ferrise@bnsf.com</vt:lpwstr>
  </property>
  <property fmtid="{D5CDD505-2E9C-101B-9397-08002B2CF9AE}" pid="4" name="_AuthorEmailDisplayName">
    <vt:lpwstr>Ferrise, Charles W</vt:lpwstr>
  </property>
  <property fmtid="{D5CDD505-2E9C-101B-9397-08002B2CF9AE}" pid="5" name="_EmailSubject">
    <vt:lpwstr>Th-LookBack.ppt</vt:lpwstr>
  </property>
  <property fmtid="{D5CDD505-2E9C-101B-9397-08002B2CF9AE}" pid="6" name="_ReviewingToolsShownOnce">
    <vt:lpwstr/>
  </property>
</Properties>
</file>